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23CE-3919-4A0B-9CEF-621D6B06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08ED-5023-4AEF-9354-DA3C2D74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AD5F-BA73-46D7-9EAF-0A5BC4BE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7E6D-E55D-48AA-841A-4F9795AE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C45F-BC6B-49E3-8350-ED27A116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2063-4808-466D-976B-D81AE717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3323-E505-4FF6-B45D-6C1274A2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D4CD-91D3-49BC-A980-78A63744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8D02-1610-4694-A5EB-C42EF0D4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EC1B-4C77-4D48-8AF0-69FBC1B5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CEFA-8A25-4499-8506-CCD6947B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4709-AFE4-40AC-BD8A-FD4854B6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5990-A93A-4095-BB96-C1F3AB8B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D282-526F-4AA4-82BF-35D8DC35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241A-7645-4130-AAA2-FC08E314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1427-B0DE-44C4-9F90-8D6FFBD8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40AE-7817-4CE5-AEFE-E1C98055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D92D-9667-4002-9A8C-F2C409E8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A89A-832C-494D-A862-6EF0F5E7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75B6-55AE-4E45-91E4-2EBEC6C8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7A86-203B-4C67-9280-6D58E3FC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F072-3581-43F4-80B5-5ADF507B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FDE8-3C52-47F9-996D-0CEF6334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0284-248B-4915-888D-37D51EB2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ADFA-744C-4783-ABEF-AF36033393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6037-1ABB-4BE6-B820-2772B8E511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5"/>
          <p:cNvSpPr/>
          <p:nvPr/>
        </p:nvSpPr>
        <p:spPr>
          <a:xfrm>
            <a:off x="1187280" y="1413000"/>
            <a:ext cx="705672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бойтись бы без чис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 целая могл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ёт во всяком деле нуже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ы с … будь дружен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235080" y="1341360"/>
            <a:ext cx="849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ДОМАШНЕЕ ЗАДАНИЕ – § 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 ВЫБ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. упр. 4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.Написать метеорологический прогноз, используя разряды количественных числите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2286000" y="1444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468360" y="1490760"/>
            <a:ext cx="820728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Задание: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Определите разряды имён числи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вадцать пять литров, одиннадцатый игрок, семь дней, тридцать три богатыря, триста пятьдесят седьмой раз, шестьдесят лет, девятнадцатая ступень, триста мес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79280" y="1557360"/>
            <a:ext cx="8640720" cy="48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ctr" pos="3481560"/>
                <a:tab algn="l" pos="542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ВЕР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ctr" pos="3481560"/>
                <a:tab algn="l" pos="542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дцать пять литров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количественное, составн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ctr" pos="3481560"/>
                <a:tab algn="l" pos="542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надцатый игрок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порядковое, прост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ctr" pos="3481560"/>
                <a:tab algn="l" pos="542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 дней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количественное, прост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ctr" pos="3481560"/>
                <a:tab algn="l" pos="542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дцать три богатыр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количественное, составн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ctr" pos="3481560"/>
                <a:tab algn="l" pos="542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ста пятьдесят седьмой раз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порядковое, составн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ctr" pos="3481560"/>
                <a:tab algn="l" pos="542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ьдесят лет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количественное, прост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ctr" pos="3481560"/>
                <a:tab algn="l" pos="542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ятнадцатая ступень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порядковое, просто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ctr" pos="3481560"/>
                <a:tab algn="l" pos="542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ста мест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количественное, прост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316080" y="1628640"/>
            <a:ext cx="8424720" cy="45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делите   количественные   имена числительные   на   групп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адцать,   дво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дну вторую, восем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ль целых пять десятых,          пятер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2"/>
          <p:cNvSpPr/>
          <p:nvPr/>
        </p:nvSpPr>
        <p:spPr>
          <a:xfrm>
            <a:off x="639360" y="1413000"/>
            <a:ext cx="80078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ряды количественных числитель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68360" y="2278080"/>
          <a:ext cx="8207280" cy="2717640"/>
        </p:xfrm>
        <a:graphic>
          <a:graphicData uri="http://schemas.openxmlformats.org/drawingml/2006/table">
            <a:tbl>
              <a:tblPr/>
              <a:tblGrid>
                <a:gridCol w="2232000"/>
                <a:gridCol w="3095640"/>
                <a:gridCol w="2879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ЕЛ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БИРАТ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РОБ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адц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о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ну вторую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ем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ер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ль целых пять десяты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179280" y="1268280"/>
            <a:ext cx="87138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йдите в тексте количественные числительные, распределите их по разря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нашей школе проходили соревнования. В команде было восемнадцать участников. Шестеро из них занимались спортом уже два года. Остальные две трети участников были спортсменами-любителями. Однако класс был очень дружный, и поэтому ребята победили. Из десяти этапов соревнования юные спортсмены выиграли восемь, то есть четыре пятых. Трое участников получили медали, пятеро - поощрительные при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0" y="1557360"/>
            <a:ext cx="38876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ЛЮЧ  К  ТЕСТ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-  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3635280" y="1557360"/>
            <a:ext cx="5077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КРИТЕРИИ ОЦЕНИ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4 отв. 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– «пятёр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3 отв. 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–«четвёр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2 отв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. – «трой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1 отв. 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– «двойка, попробуйте ещё раз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250920" y="1268280"/>
            <a:ext cx="8642160" cy="59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исьменно расскажите о себе.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Напишите продолжение текста, указав разряды числитель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 просыпаюсь в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целое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ов.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Дробное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часа трачу  на умывание, зарядку и завтрак. Обычно у меня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целое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ов.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Целое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ут у меня занимает дорога  домой. Затем иду в музыкальную школу (на секцию, делаю уроки).  На чтение книг остается  немного времени. Это обычно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дробное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22:19:49Z</dcterms:created>
  <dc:creator>Федотова Виктория Александровна</dc:creator>
  <dc:description/>
  <dc:language>en-US</dc:language>
  <cp:lastModifiedBy>123</cp:lastModifiedBy>
  <dcterms:modified xsi:type="dcterms:W3CDTF">2018-02-26T16:08:10Z</dcterms:modified>
  <cp:revision>15</cp:revision>
  <dc:subject/>
  <dc:title>Слайд 1</dc:title>
</cp:coreProperties>
</file>